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78A3-6D10-4FBB-8947-E6BE0BD06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7945-492A-40E4-A44B-4F46D2675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C00F-57F2-4975-91D4-B1795A9E8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D110-1170-4577-979E-21CEC91A6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7B608-E60B-4FD6-A79F-D12AEAE0F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2B36B-F324-464C-92EE-E0DF9AB0C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AB985-E8FD-4B5E-92F3-50C94E4F5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1E1B7-8AEA-4FC4-B1BD-136986201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F9566-9B91-447A-9401-DE1A17E8C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FAD2B-364A-4D00-BFD5-9A9E29006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9EAE0-27EE-4A4F-B178-F1CB28B27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0027-13CE-4477-B222-A83F42F12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BD760-C80B-45D0-A44F-81AB39AAB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7EB31-C2CB-4892-99EB-921FB533E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ED044-2389-4CCD-A058-064B1F184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0FD3D-879A-4FDB-B468-2E1A012EB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3E489-F237-410C-9600-8FA6EC27C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97B4FD-43CA-4B7F-9C3C-F76DC7291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0223B7-6308-436B-B9B1-4AE2027A9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F38061-CB81-4CF4-8530-3174FA6DD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066193-B1B1-441E-BC80-18BF89E43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7DB14F-2FFB-4571-BF73-CC8808F58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CD60-3D32-4B8E-9584-5ECEB54EB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D4C7F0-28E4-463E-9C98-F52A17BC5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0419D3-32C3-489A-A221-A9559D661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1C4764-5538-4B5F-97BE-0A215138D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CBA66D-1A52-42A6-96A7-131F1BA22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A029F2-E2EC-4A75-BFED-91B364FFE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1366A8-ABCA-4DAA-ABE9-C922D21E2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61097B-E7CA-4A22-B4AD-6DC3B0DEA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8E8ADB-DFD0-44AC-9FCC-92E6B8D2D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C95A03-1240-4D03-B0E1-99189DF64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CA8D0A-C188-4FC9-B0B9-C84A0A885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2F05-4FDA-4B37-A721-EE7A86205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AEE336-B4C1-4C58-ADA8-6EC8BCB8A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99D0CB-7D46-4E17-9E9B-98AA8AC3A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D14805-0936-46D5-A138-201F0107A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7941D1-0105-4D48-BCCE-8879B32E3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8AE25B-F39B-4DB2-948F-AC6BEED39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E6F993-6D93-4CC4-89EE-C01126B76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0B2FA5-67A5-4C9A-9353-4AE6FE6C6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DA4335-F652-4C77-A72C-B1BCBB766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9C8254-9D17-4889-B727-F6E69B7C9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23773D-8DC9-453C-B621-E89649456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A116-3DD7-4EE3-B38A-8AC1A5EC5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8A2D26-6ED3-4A0A-B7FE-55E7E5445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83115B-40B0-4F8E-8099-7783982B0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C31BCF-44C1-415C-A309-8C9BD0FEB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B50634-B469-4721-BB4A-6A2AAE670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900024-7ABD-4590-A4C7-D06C13330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DB89D9-0A2B-44EB-A795-A95519E1B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6AC998-18B8-4930-ADE7-363FCCC05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839299-ECD7-4F75-9E0B-CF268DE51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78F318-4D0B-4846-A43E-8FC599C5F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B5171D-C7FA-40B2-A5E4-DFE640EBB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C154-7254-49EA-B263-334BB805A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6101B4-59ED-4A0D-B4E6-8FF769199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C31F9F-BBFB-475D-9BD0-8E1BAB5B2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EB170D-B11F-4A0C-A947-567A4376B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C2963D-6260-4FE8-A6F1-34B2E9397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F6B736-CA9C-4F79-B9AA-D16D13FD4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0DCDB3-086C-4E99-8431-19CEB8C24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09A0D7-04F2-4AE8-865E-80BB549F9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C32D78-A137-4A19-9B54-5EC680CAA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B524E5-D49A-4529-B7F4-DB3D4DC71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11CE15-E7F4-4055-AE47-0AFCD0921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DA03-75F2-4765-BDA0-1444F2CCA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FF51A4-2CF8-4F2E-8E9F-33968DFE7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45F6AF-4076-42C0-9714-297CE3E74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602091-AA9F-4CC1-94D9-31461FB16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7A0BEE-25AE-4676-B020-2166D8810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207B7A-D59F-45E8-8FD5-814BD3E58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DD9459-F7FD-42CA-8569-885EB6948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09D065-B5C0-458B-AC1B-6874A4BBF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447306-7862-4C4D-B8D3-9ABE19C19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D57F23-9B1F-4C74-A7B6-4482078E2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EC5107-7B28-4EC3-94EB-BF057CF22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99BF-0DF0-4E37-BDA1-7981E3A21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81CE58-9379-4D4C-96C9-732FC2F72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8B1973-2B02-4679-8224-00FB54A6C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6FAC96-CBBB-42B6-9369-B1C5A713E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3E6C80-3931-4572-B221-29DFBA9F6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78836B-21E6-4DCD-BB79-847CAAEB4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D2AA-EC15-4C1C-93CC-614603FC0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tângulo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" name="Retângulo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" name="Retângulo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Retângulo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Retângulo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Retângulo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Retângulo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Retângulo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" name="Retângulo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f8f8f8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b2b2b2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969696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96969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EF303-4256-40ED-A11E-9A238E4F68EC}" type="slidenum"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tângulo 31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" name="Retângulo 3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" name="Retângulo 3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" name="Retângulo 4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" name="Retângulo 41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" name="Retângulo 55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" name="Retângulo 64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" name="Retângulo 65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" name="Retângulo 66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f8f8f8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b2b2b2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969696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96969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7815B-D230-4D16-9636-290DDCDBABE6}" type="slidenum"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tângulo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" name="Retângulo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" name="Retângulo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3" name="Retângulo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" name="Retângulo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" name="Retângulo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6" name="Retângulo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7" name="Retângulo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Retângulo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" name="Forma livre 13"/>
          <p:cNvSpPr/>
          <p:nvPr/>
        </p:nvSpPr>
        <p:spPr>
          <a:xfrm>
            <a:off x="4829040" y="1073160"/>
            <a:ext cx="4321440" cy="5791320"/>
          </a:xfrm>
          <a:prstGeom prst="pie">
            <a:avLst/>
          </a:prstGeom>
          <a:noFill/>
          <a:ln w="3240">
            <a:solidFill>
              <a:srgbClr val="b2b2b2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0" name="Forma livre 14"/>
          <p:cNvSpPr/>
          <p:nvPr/>
        </p:nvSpPr>
        <p:spPr>
          <a:xfrm>
            <a:off x="374760" y="0"/>
            <a:ext cx="5513400" cy="6615000"/>
          </a:xfrm>
          <a:prstGeom prst="pie">
            <a:avLst/>
          </a:prstGeom>
          <a:noFill/>
          <a:ln w="3240">
            <a:solidFill>
              <a:srgbClr val="b2b2b2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1" name="Forma livre 12"/>
          <p:cNvSpPr/>
          <p:nvPr/>
        </p:nvSpPr>
        <p:spPr>
          <a:xfrm rot="5236200">
            <a:off x="4461120" y="1483200"/>
            <a:ext cx="4114800" cy="1189080"/>
          </a:xfrm>
          <a:prstGeom prst="pie">
            <a:avLst/>
          </a:prstGeom>
          <a:solidFill>
            <a:srgbClr val="3f3f3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" name="Forma livre 15"/>
          <p:cNvSpPr/>
          <p:nvPr/>
        </p:nvSpPr>
        <p:spPr>
          <a:xfrm>
            <a:off x="5943600" y="0"/>
            <a:ext cx="2743200" cy="4267080"/>
          </a:xfrm>
          <a:prstGeom prst="pie">
            <a:avLst/>
          </a:prstGeom>
          <a:solidFill>
            <a:srgbClr val="3f3f3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Forma livre 16"/>
          <p:cNvSpPr/>
          <p:nvPr/>
        </p:nvSpPr>
        <p:spPr>
          <a:xfrm>
            <a:off x="5943600" y="4267080"/>
            <a:ext cx="3200400" cy="1143000"/>
          </a:xfrm>
          <a:prstGeom prst="pie">
            <a:avLst/>
          </a:prstGeom>
          <a:solidFill>
            <a:srgbClr val="3f3f3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4" name="Forma livre 17"/>
          <p:cNvSpPr/>
          <p:nvPr/>
        </p:nvSpPr>
        <p:spPr>
          <a:xfrm>
            <a:off x="5943600" y="0"/>
            <a:ext cx="1371600" cy="4267080"/>
          </a:xfrm>
          <a:prstGeom prst="pie">
            <a:avLst/>
          </a:prstGeom>
          <a:solidFill>
            <a:srgbClr val="3f3f3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" name="Forma livre 18"/>
          <p:cNvSpPr/>
          <p:nvPr/>
        </p:nvSpPr>
        <p:spPr>
          <a:xfrm>
            <a:off x="5948280" y="4246560"/>
            <a:ext cx="2090880" cy="2611440"/>
          </a:xfrm>
          <a:prstGeom prst="pie">
            <a:avLst/>
          </a:prstGeom>
          <a:solidFill>
            <a:srgbClr val="3f3f3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" name="Forma livre 19"/>
          <p:cNvSpPr/>
          <p:nvPr/>
        </p:nvSpPr>
        <p:spPr>
          <a:xfrm>
            <a:off x="5943600" y="4267080"/>
            <a:ext cx="1600200" cy="2590920"/>
          </a:xfrm>
          <a:prstGeom prst="pie">
            <a:avLst/>
          </a:prstGeom>
          <a:solidFill>
            <a:srgbClr val="3f3f3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Forma livre 20"/>
          <p:cNvSpPr/>
          <p:nvPr/>
        </p:nvSpPr>
        <p:spPr>
          <a:xfrm>
            <a:off x="5943600" y="1371600"/>
            <a:ext cx="3200400" cy="2895480"/>
          </a:xfrm>
          <a:prstGeom prst="pie">
            <a:avLst/>
          </a:prstGeom>
          <a:solidFill>
            <a:srgbClr val="3f3f3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8" name="Forma livre 21"/>
          <p:cNvSpPr/>
          <p:nvPr/>
        </p:nvSpPr>
        <p:spPr>
          <a:xfrm>
            <a:off x="5943600" y="1752480"/>
            <a:ext cx="3200400" cy="2514600"/>
          </a:xfrm>
          <a:prstGeom prst="pie">
            <a:avLst/>
          </a:prstGeom>
          <a:solidFill>
            <a:srgbClr val="3f3f3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9" name="Forma livre 22"/>
          <p:cNvSpPr/>
          <p:nvPr/>
        </p:nvSpPr>
        <p:spPr>
          <a:xfrm>
            <a:off x="990720" y="4267080"/>
            <a:ext cx="4952880" cy="2590920"/>
          </a:xfrm>
          <a:prstGeom prst="pie">
            <a:avLst/>
          </a:prstGeom>
          <a:solidFill>
            <a:srgbClr val="3f3f3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" name="Forma livre 23"/>
          <p:cNvSpPr/>
          <p:nvPr/>
        </p:nvSpPr>
        <p:spPr>
          <a:xfrm>
            <a:off x="533520" y="4267080"/>
            <a:ext cx="5333760" cy="2590920"/>
          </a:xfrm>
          <a:prstGeom prst="pie">
            <a:avLst/>
          </a:prstGeom>
          <a:solidFill>
            <a:srgbClr val="3f3f3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Forma livre 24"/>
          <p:cNvSpPr/>
          <p:nvPr/>
        </p:nvSpPr>
        <p:spPr>
          <a:xfrm>
            <a:off x="366840" y="2438280"/>
            <a:ext cx="5638680" cy="1828800"/>
          </a:xfrm>
          <a:prstGeom prst="pie">
            <a:avLst/>
          </a:prstGeom>
          <a:solidFill>
            <a:srgbClr val="3f3f3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" name="Forma livre 25"/>
          <p:cNvSpPr/>
          <p:nvPr/>
        </p:nvSpPr>
        <p:spPr>
          <a:xfrm>
            <a:off x="366840" y="2133720"/>
            <a:ext cx="5638680" cy="2133360"/>
          </a:xfrm>
          <a:prstGeom prst="pie">
            <a:avLst/>
          </a:prstGeom>
          <a:solidFill>
            <a:srgbClr val="3f3f3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3" name="Forma livre 26"/>
          <p:cNvSpPr/>
          <p:nvPr/>
        </p:nvSpPr>
        <p:spPr>
          <a:xfrm>
            <a:off x="4572000" y="4267080"/>
            <a:ext cx="1371600" cy="2590920"/>
          </a:xfrm>
          <a:prstGeom prst="pie">
            <a:avLst/>
          </a:prstGeom>
          <a:solidFill>
            <a:srgbClr val="3f3f3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" name="Retângulo 6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3f3f3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" name="Retângulo 7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6" name="Retângulo 8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7" name="Retângulo 9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" name="Retângulo 10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" name="Retângulo 11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f8f8f8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b2b2b2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969696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96969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DCECE-60AF-4833-9D80-78E478D47DDE}" type="slidenum"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f8f8f8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b2b2b2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969696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96969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DC4FF-7E09-4346-BF3C-FBE7B2FBFB6F}" type="slidenum"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tângulo 24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3f3f3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3" name="Retângulo 15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4" name="Retângulo 16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5" name="Retângulo 17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6" name="Retângulo 18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7" name="Retângulo 19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8" name="Retângulo 20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9" name="Retângulo 21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0" name="Retângulo 28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1" name="Retângulo 29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f8f8f8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b2b2b2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969696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96969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49A2A-7386-467B-83C1-AFC4E420697C}" type="slidenum"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f8f8f8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b2b2b2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969696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96969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5F525-72E0-4F9F-90B7-B8EB165C7BEF}" type="slidenum"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tângulo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5" name="Retângulo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6" name="Retângulo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7" name="Retângulo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8" name="Retângulo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9" name="Retângulo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0" name="Retângulo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1" name="Retângulo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2" name="Retângulo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3" name="Retângulo 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4" name="Conector reto 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grpSp>
        <p:nvGrpSpPr>
          <p:cNvPr id="315" name="Grupo 9"/>
          <p:cNvGrpSpPr/>
          <p:nvPr/>
        </p:nvGrpSpPr>
        <p:grpSpPr>
          <a:xfrm>
            <a:off x="8516880" y="1217520"/>
            <a:ext cx="128160" cy="131760"/>
            <a:chOff x="8516880" y="1217520"/>
            <a:chExt cx="128160" cy="131760"/>
          </a:xfrm>
        </p:grpSpPr>
        <p:sp>
          <p:nvSpPr>
            <p:cNvPr id="316" name="Conector reto 14"/>
            <p:cNvSpPr/>
            <p:nvPr/>
          </p:nvSpPr>
          <p:spPr>
            <a:xfrm>
              <a:off x="8572320" y="12175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17" name="Conector reto 15"/>
            <p:cNvSpPr/>
            <p:nvPr/>
          </p:nvSpPr>
          <p:spPr>
            <a:xfrm>
              <a:off x="8516880" y="12830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18" name="Conector reto 16"/>
            <p:cNvSpPr/>
            <p:nvPr/>
          </p:nvSpPr>
          <p:spPr>
            <a:xfrm flipV="1">
              <a:off x="8572320" y="12823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319" name="Grupo 13"/>
          <p:cNvGrpSpPr/>
          <p:nvPr/>
        </p:nvGrpSpPr>
        <p:grpSpPr>
          <a:xfrm>
            <a:off x="8669160" y="1370160"/>
            <a:ext cx="128880" cy="131760"/>
            <a:chOff x="8669160" y="1370160"/>
            <a:chExt cx="128880" cy="131760"/>
          </a:xfrm>
        </p:grpSpPr>
        <p:sp>
          <p:nvSpPr>
            <p:cNvPr id="320" name="Conector reto 10"/>
            <p:cNvSpPr/>
            <p:nvPr/>
          </p:nvSpPr>
          <p:spPr>
            <a:xfrm>
              <a:off x="8725320" y="137016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1" name="Conector reto 11"/>
            <p:cNvSpPr/>
            <p:nvPr/>
          </p:nvSpPr>
          <p:spPr>
            <a:xfrm>
              <a:off x="8669160" y="1435680"/>
              <a:ext cx="1036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2" name="Conector reto 12"/>
            <p:cNvSpPr/>
            <p:nvPr/>
          </p:nvSpPr>
          <p:spPr>
            <a:xfrm flipV="1">
              <a:off x="8725320" y="143496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323" name="Grupo 17"/>
          <p:cNvGrpSpPr/>
          <p:nvPr/>
        </p:nvGrpSpPr>
        <p:grpSpPr>
          <a:xfrm>
            <a:off x="8321760" y="1473120"/>
            <a:ext cx="128160" cy="131760"/>
            <a:chOff x="8321760" y="1473120"/>
            <a:chExt cx="128160" cy="131760"/>
          </a:xfrm>
        </p:grpSpPr>
        <p:sp>
          <p:nvSpPr>
            <p:cNvPr id="324" name="Conector reto 18"/>
            <p:cNvSpPr/>
            <p:nvPr/>
          </p:nvSpPr>
          <p:spPr>
            <a:xfrm>
              <a:off x="8377200" y="14731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5" name="Conector reto 19"/>
            <p:cNvSpPr/>
            <p:nvPr/>
          </p:nvSpPr>
          <p:spPr>
            <a:xfrm>
              <a:off x="8321760" y="15386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6" name="Conector reto 20"/>
            <p:cNvSpPr/>
            <p:nvPr/>
          </p:nvSpPr>
          <p:spPr>
            <a:xfrm flipV="1">
              <a:off x="8377200" y="15379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f8f8f8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b2b2b2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969696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96969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C5495-D5AD-42C6-802D-067623B4790B}" type="slidenum"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Imagem 1" descr="Imagem1.jpg"/>
          <p:cNvPicPr/>
          <p:nvPr/>
        </p:nvPicPr>
        <p:blipFill>
          <a:blip r:embed="rId1"/>
          <a:stretch/>
        </p:blipFill>
        <p:spPr>
          <a:xfrm>
            <a:off x="1500120" y="142920"/>
            <a:ext cx="6072120" cy="6500880"/>
          </a:xfrm>
          <a:prstGeom prst="rect">
            <a:avLst/>
          </a:prstGeom>
          <a:ln w="0">
            <a:noFill/>
          </a:ln>
        </p:spPr>
      </p:pic>
      <p:pic>
        <p:nvPicPr>
          <p:cNvPr id="369" name="anni 60 -orietta berti - ma come balli bene bella bimba432.mp3" descr=""/>
          <p:cNvPicPr/>
          <p:nvPr/>
        </p:nvPicPr>
        <p:blipFill>
          <a:blip r:embed="rId2"/>
          <a:stretch/>
        </p:blipFill>
        <p:spPr>
          <a:xfrm>
            <a:off x="6643800" y="5929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3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CaixaDeTexto 1"/>
          <p:cNvSpPr/>
          <p:nvPr/>
        </p:nvSpPr>
        <p:spPr>
          <a:xfrm>
            <a:off x="428760" y="1500120"/>
            <a:ext cx="83581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Arial"/>
              </a:rPr>
              <a:t>Surpreendente, por trazer de forma criativa e simpática todo um vigoroso e </a:t>
            </a: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Arial"/>
              </a:rPr>
              <a:t>até então desprestigiado universo social.</a:t>
            </a: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4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CaixaDeTexto 1"/>
          <p:cNvSpPr/>
          <p:nvPr/>
        </p:nvSpPr>
        <p:spPr>
          <a:xfrm>
            <a:off x="428760" y="928800"/>
            <a:ext cx="828648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Arial"/>
              </a:rPr>
              <a:t>Surpreendente também pela audácia no uso da linguagem contrariando não só a disciplina gramatical mas, </a:t>
            </a: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Arial"/>
              </a:rPr>
              <a:t>sobre tudo o “bom gosto” lingüístico.</a:t>
            </a: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1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CaixaDeTexto 1"/>
          <p:cNvSpPr/>
          <p:nvPr/>
        </p:nvSpPr>
        <p:spPr>
          <a:xfrm>
            <a:off x="285840" y="285840"/>
            <a:ext cx="850104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Arial"/>
              </a:rPr>
              <a:t>Surpreendente, ainda, pela utilização de técnicas de cunho modernista, de </a:t>
            </a: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Arial"/>
              </a:rPr>
              <a:t>impacto inovador no Brasil daquela época, como sua forma narrativa, feita de</a:t>
            </a: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Arial"/>
              </a:rPr>
              <a:t>pequenos blocos e uma linguagem que se quer jornalística.</a:t>
            </a: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8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CaixaDeTexto 1"/>
          <p:cNvSpPr/>
          <p:nvPr/>
        </p:nvSpPr>
        <p:spPr>
          <a:xfrm>
            <a:off x="500040" y="500040"/>
            <a:ext cx="271476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Arial"/>
              </a:rPr>
              <a:t>Alcântara Machado busca retratar os aspectos da vida cotidiana  dos novos mestiços.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88" name="Imagem 2" descr="Imagem5.jpg"/>
          <p:cNvPicPr/>
          <p:nvPr/>
        </p:nvPicPr>
        <p:blipFill>
          <a:blip r:embed="rId1"/>
          <a:stretch/>
        </p:blipFill>
        <p:spPr>
          <a:xfrm>
            <a:off x="3286080" y="285840"/>
            <a:ext cx="5643720" cy="621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5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CaixaDeTexto 1"/>
          <p:cNvSpPr/>
          <p:nvPr/>
        </p:nvSpPr>
        <p:spPr>
          <a:xfrm>
            <a:off x="428760" y="1214280"/>
            <a:ext cx="33573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O espaço é essencialmente urbano, com suas dificuldades e com a luta das pessoas para nele se adaptarem.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90" name="Imagem 2" descr="Imagem7.gif"/>
          <p:cNvPicPr/>
          <p:nvPr/>
        </p:nvPicPr>
        <p:blipFill>
          <a:blip r:embed="rId1"/>
          <a:stretch/>
        </p:blipFill>
        <p:spPr>
          <a:xfrm>
            <a:off x="7143840" y="4429080"/>
            <a:ext cx="1785960" cy="2071800"/>
          </a:xfrm>
          <a:prstGeom prst="rect">
            <a:avLst/>
          </a:prstGeom>
          <a:ln w="0">
            <a:noFill/>
          </a:ln>
        </p:spPr>
      </p:pic>
      <p:pic>
        <p:nvPicPr>
          <p:cNvPr id="391" name="Imagem 3" descr="Imagem8.gif"/>
          <p:cNvPicPr/>
          <p:nvPr/>
        </p:nvPicPr>
        <p:blipFill>
          <a:blip r:embed="rId2"/>
          <a:stretch/>
        </p:blipFill>
        <p:spPr>
          <a:xfrm>
            <a:off x="7358040" y="2214720"/>
            <a:ext cx="1611360" cy="1928520"/>
          </a:xfrm>
          <a:prstGeom prst="rect">
            <a:avLst/>
          </a:prstGeom>
          <a:ln w="0">
            <a:noFill/>
          </a:ln>
        </p:spPr>
      </p:pic>
      <p:pic>
        <p:nvPicPr>
          <p:cNvPr id="392" name="Imagem 4" descr="Imagem9.gif"/>
          <p:cNvPicPr/>
          <p:nvPr/>
        </p:nvPicPr>
        <p:blipFill>
          <a:blip r:embed="rId3"/>
          <a:stretch/>
        </p:blipFill>
        <p:spPr>
          <a:xfrm>
            <a:off x="7358040" y="214200"/>
            <a:ext cx="1581120" cy="1857600"/>
          </a:xfrm>
          <a:prstGeom prst="rect">
            <a:avLst/>
          </a:prstGeom>
          <a:ln w="0">
            <a:noFill/>
          </a:ln>
        </p:spPr>
      </p:pic>
      <p:pic>
        <p:nvPicPr>
          <p:cNvPr id="393" name="Imagem 5" descr="Imagem10.jpg"/>
          <p:cNvPicPr/>
          <p:nvPr/>
        </p:nvPicPr>
        <p:blipFill>
          <a:blip r:embed="rId4"/>
          <a:stretch/>
        </p:blipFill>
        <p:spPr>
          <a:xfrm>
            <a:off x="3929040" y="4329000"/>
            <a:ext cx="3000240" cy="2314800"/>
          </a:xfrm>
          <a:prstGeom prst="rect">
            <a:avLst/>
          </a:prstGeom>
          <a:ln w="0">
            <a:noFill/>
          </a:ln>
        </p:spPr>
      </p:pic>
      <p:pic>
        <p:nvPicPr>
          <p:cNvPr id="394" name="Imagem 6" descr="Imagem12.jpg"/>
          <p:cNvPicPr/>
          <p:nvPr/>
        </p:nvPicPr>
        <p:blipFill>
          <a:blip r:embed="rId5"/>
          <a:stretch/>
        </p:blipFill>
        <p:spPr>
          <a:xfrm>
            <a:off x="3929040" y="214200"/>
            <a:ext cx="3322800" cy="3936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8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3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3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3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3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3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3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3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3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3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3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3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3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3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3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3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CaixaDeTexto 1"/>
          <p:cNvSpPr/>
          <p:nvPr/>
        </p:nvSpPr>
        <p:spPr>
          <a:xfrm>
            <a:off x="1285920" y="285840"/>
            <a:ext cx="685800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  <a:ea typeface="Arial"/>
              </a:rPr>
              <a:t>O próprio Alcântara se referiu a sua obra: “Tenta Fixar tão somente alguns aspectos da vida trabalhadeira, íntima e quotidiana desses italianinhos. É um jornal. Nada mais. Notícia. Só. Não tem partido nem ideal. Não comenta. Não discute. Não aprofunda.”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2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CaixaDeTexto 1"/>
          <p:cNvSpPr/>
          <p:nvPr/>
        </p:nvSpPr>
        <p:spPr>
          <a:xfrm>
            <a:off x="1883880" y="2428920"/>
            <a:ext cx="5534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rial"/>
                <a:ea typeface="Arial"/>
              </a:rPr>
              <a:t>ALUNOS:</a:t>
            </a:r>
            <a:endParaRPr b="0" lang="en-US" sz="96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97" name="adoniran barbosa e demonios da garoa-samba do arnesto174307.mp3" descr=""/>
          <p:cNvPicPr/>
          <p:nvPr/>
        </p:nvPicPr>
        <p:blipFill>
          <a:blip r:embed="rId1"/>
          <a:stretch/>
        </p:blipFill>
        <p:spPr>
          <a:xfrm>
            <a:off x="7929720" y="5929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8" dur="1" fill="hold"/>
                                        <p:tgtEl>
                                          <p:spTgt spid="3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2" dur="2000" fill="hold"/>
                                        <p:tgtEl>
                                          <p:spTgt spid="39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CaixaDeTexto 2"/>
          <p:cNvSpPr/>
          <p:nvPr/>
        </p:nvSpPr>
        <p:spPr>
          <a:xfrm>
            <a:off x="2734920" y="2571840"/>
            <a:ext cx="397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Thiago da Silva Melo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7" dur="2000" fill="hold"/>
                                        <p:tgtEl>
                                          <p:spTgt spid="39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CaixaDeTexto 1"/>
          <p:cNvSpPr/>
          <p:nvPr/>
        </p:nvSpPr>
        <p:spPr>
          <a:xfrm>
            <a:off x="3371400" y="2571840"/>
            <a:ext cx="282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0000"/>
                </a:solidFill>
                <a:latin typeface="Arial"/>
                <a:ea typeface="Arial"/>
              </a:rPr>
              <a:t>Maicon Lazari 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2" dur="2000" fill="hold"/>
                                        <p:tgtEl>
                                          <p:spTgt spid="39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CaixaDeTexto 1"/>
          <p:cNvSpPr/>
          <p:nvPr/>
        </p:nvSpPr>
        <p:spPr>
          <a:xfrm>
            <a:off x="2804760" y="2571840"/>
            <a:ext cx="385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Anderson  de  Paula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7" dur="2000" fill="hold"/>
                                        <p:tgtEl>
                                          <p:spTgt spid="40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CaixaDeTexto 1"/>
          <p:cNvSpPr/>
          <p:nvPr/>
        </p:nvSpPr>
        <p:spPr>
          <a:xfrm>
            <a:off x="515880" y="571680"/>
            <a:ext cx="820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  <a:ea typeface="Arial"/>
              </a:rPr>
              <a:t>SOBRE O AUTOR:</a:t>
            </a:r>
            <a:endParaRPr b="0" lang="en-US" sz="72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71" name="Imagem 2" descr="Imagem2.jpg"/>
          <p:cNvPicPr/>
          <p:nvPr/>
        </p:nvPicPr>
        <p:blipFill>
          <a:blip r:embed="rId1"/>
          <a:stretch/>
        </p:blipFill>
        <p:spPr>
          <a:xfrm>
            <a:off x="2071800" y="2143080"/>
            <a:ext cx="5286240" cy="4111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CaixaDeTexto 1"/>
          <p:cNvSpPr/>
          <p:nvPr/>
        </p:nvSpPr>
        <p:spPr>
          <a:xfrm>
            <a:off x="3511440" y="2643120"/>
            <a:ext cx="219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Edu Carlos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2" dur="2000" fill="hold"/>
                                        <p:tgtEl>
                                          <p:spTgt spid="40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CaixaDeTexto 1"/>
          <p:cNvSpPr/>
          <p:nvPr/>
        </p:nvSpPr>
        <p:spPr>
          <a:xfrm>
            <a:off x="3227400" y="2714760"/>
            <a:ext cx="279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0000"/>
                </a:solidFill>
                <a:latin typeface="Arial"/>
                <a:ea typeface="Arial"/>
              </a:rPr>
              <a:t>Fernando May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7" dur="2000" fill="hold"/>
                                        <p:tgtEl>
                                          <p:spTgt spid="40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CaixaDeTexto 1"/>
          <p:cNvSpPr/>
          <p:nvPr/>
        </p:nvSpPr>
        <p:spPr>
          <a:xfrm>
            <a:off x="3157920" y="2500200"/>
            <a:ext cx="2820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0000"/>
                </a:solidFill>
                <a:latin typeface="Arial"/>
                <a:ea typeface="Arial"/>
              </a:rPr>
              <a:t>E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0000"/>
                </a:solidFill>
                <a:latin typeface="Arial"/>
                <a:ea typeface="Arial"/>
              </a:rPr>
              <a:t>Raphael Marin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2" dur="2000" fill="hold"/>
                                        <p:tgtEl>
                                          <p:spTgt spid="40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26920" y="1844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0000"/>
                </a:solidFill>
                <a:latin typeface="Arial Unicode MS"/>
              </a:rPr>
              <a:t>Escola Estadual Filinto Muller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pt-BR" sz="3600" spc="-1" strike="noStrike">
                <a:solidFill>
                  <a:srgbClr val="ff0000"/>
                </a:solidFill>
                <a:latin typeface="Arial Unicode MS"/>
              </a:rPr>
              <a:t>Professora Marta Roque Branco</a:t>
            </a:r>
            <a:endParaRPr b="0" lang="en-US" sz="3600" spc="-1" strike="noStrike">
              <a:solidFill>
                <a:srgbClr val="f8f8f8"/>
              </a:solidFill>
              <a:latin typeface="Consolas"/>
            </a:endParaRPr>
          </a:p>
        </p:txBody>
      </p:sp>
    </p:spTree>
  </p:cSld>
  <p:transition spd="slow" advTm="1000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CaixaDeTexto 1"/>
          <p:cNvSpPr/>
          <p:nvPr/>
        </p:nvSpPr>
        <p:spPr>
          <a:xfrm>
            <a:off x="428760" y="285840"/>
            <a:ext cx="83581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  <a:ea typeface="Arial"/>
              </a:rPr>
              <a:t>José de Alcântara Machado de Oliveira nasceu em Piracicaba</a:t>
            </a: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  <a:ea typeface="Arial"/>
              </a:rPr>
              <a:t>em 19 de Outubro de 1901</a:t>
            </a: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  <a:ea typeface="Arial"/>
              </a:rPr>
              <a:t>e faleceu em São Paulo em 1 de Abril de 1941.</a:t>
            </a: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CaixaDeTexto 1"/>
          <p:cNvSpPr/>
          <p:nvPr/>
        </p:nvSpPr>
        <p:spPr>
          <a:xfrm>
            <a:off x="1571760" y="4857840"/>
            <a:ext cx="6357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Cursou a faculdade de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Direito de São Paulo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(hoje Faculdade de Direito da USP).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74" name="Imagem 2" descr="238_833-fdsp.jpg"/>
          <p:cNvPicPr/>
          <p:nvPr/>
        </p:nvPicPr>
        <p:blipFill>
          <a:blip r:embed="rId1"/>
          <a:stretch/>
        </p:blipFill>
        <p:spPr>
          <a:xfrm>
            <a:off x="1571760" y="214200"/>
            <a:ext cx="6513480" cy="4286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CaixaDeTexto 1"/>
          <p:cNvSpPr/>
          <p:nvPr/>
        </p:nvSpPr>
        <p:spPr>
          <a:xfrm>
            <a:off x="1143000" y="1714680"/>
            <a:ext cx="7000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  <a:ea typeface="Arial"/>
              </a:rPr>
              <a:t>Quase foi exilado em 1932</a:t>
            </a: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  <a:ea typeface="Arial"/>
              </a:rPr>
              <a:t>devido a Revolução Constitucionalista.</a:t>
            </a: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CaixaDeTexto 1"/>
          <p:cNvSpPr/>
          <p:nvPr/>
        </p:nvSpPr>
        <p:spPr>
          <a:xfrm>
            <a:off x="500040" y="1357200"/>
            <a:ext cx="8215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Foi vereador de São Paulo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e ingressou na Academia Brasileira de Letras,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onde em seu discurso de posse introduziu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a famosa declaração: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“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Paulista sou, há quatrocentos anos”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CaixaDeTexto 1"/>
          <p:cNvSpPr/>
          <p:nvPr/>
        </p:nvSpPr>
        <p:spPr>
          <a:xfrm>
            <a:off x="214200" y="149400"/>
            <a:ext cx="8643960" cy="66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0000"/>
                </a:solidFill>
                <a:latin typeface="Arial"/>
                <a:ea typeface="Arial"/>
              </a:rPr>
              <a:t>A bibliografia de Alcântara Machado inclui as seguintes obras:</a:t>
            </a:r>
            <a:endParaRPr b="0" lang="en-US" sz="4300" spc="-1" strike="noStrike">
              <a:solidFill>
                <a:srgbClr val="ffffff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0000"/>
                </a:solidFill>
                <a:latin typeface="Arial"/>
                <a:ea typeface="Arial"/>
              </a:rPr>
              <a:t>“</a:t>
            </a:r>
            <a:r>
              <a:rPr b="1" lang="en-US" sz="4300" spc="-1" strike="noStrike">
                <a:solidFill>
                  <a:srgbClr val="ff0000"/>
                </a:solidFill>
                <a:latin typeface="Arial"/>
                <a:ea typeface="Arial"/>
              </a:rPr>
              <a:t>A embriaguez e a responsabilidade criminal”</a:t>
            </a:r>
            <a:endParaRPr b="0" lang="en-US" sz="4300" spc="-1" strike="noStrike">
              <a:solidFill>
                <a:srgbClr val="ffffff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0000"/>
                </a:solidFill>
                <a:latin typeface="Arial"/>
                <a:ea typeface="Arial"/>
              </a:rPr>
              <a:t>“</a:t>
            </a:r>
            <a:r>
              <a:rPr b="1" lang="en-US" sz="4300" spc="-1" strike="noStrike">
                <a:solidFill>
                  <a:srgbClr val="ff0000"/>
                </a:solidFill>
                <a:latin typeface="Arial"/>
                <a:ea typeface="Arial"/>
              </a:rPr>
              <a:t>O exame pericial do Direito Romano”</a:t>
            </a:r>
            <a:endParaRPr b="0" lang="en-US" sz="4300" spc="-1" strike="noStrike">
              <a:solidFill>
                <a:srgbClr val="ffffff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0000"/>
                </a:solidFill>
                <a:latin typeface="Arial"/>
                <a:ea typeface="Arial"/>
              </a:rPr>
              <a:t>“</a:t>
            </a:r>
            <a:r>
              <a:rPr b="1" lang="en-US" sz="4300" spc="-1" strike="noStrike">
                <a:solidFill>
                  <a:srgbClr val="ff0000"/>
                </a:solidFill>
                <a:latin typeface="Arial"/>
                <a:ea typeface="Arial"/>
              </a:rPr>
              <a:t>Vida e morte do bandeirante”</a:t>
            </a:r>
            <a:endParaRPr b="0" lang="en-US" sz="4300" spc="-1" strike="noStrike">
              <a:solidFill>
                <a:srgbClr val="ffffff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0000"/>
                </a:solidFill>
                <a:latin typeface="Arial"/>
                <a:ea typeface="Arial"/>
              </a:rPr>
              <a:t>“</a:t>
            </a:r>
            <a:r>
              <a:rPr b="1" lang="en-US" sz="4300" spc="-1" strike="noStrike">
                <a:solidFill>
                  <a:srgbClr val="ff0000"/>
                </a:solidFill>
                <a:latin typeface="Arial"/>
                <a:ea typeface="Arial"/>
              </a:rPr>
              <a:t>Basílio Machado” e, ainda “Brás, Bexiga e Barra Funda”</a:t>
            </a:r>
            <a:endParaRPr b="0" lang="en-US" sz="43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3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CaixaDeTexto 1"/>
          <p:cNvSpPr/>
          <p:nvPr/>
        </p:nvSpPr>
        <p:spPr>
          <a:xfrm>
            <a:off x="933480" y="285840"/>
            <a:ext cx="759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  <a:ea typeface="Arial"/>
              </a:rPr>
              <a:t>SOBRE A OBRA:</a:t>
            </a:r>
            <a:endParaRPr b="0" lang="en-US" sz="72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79" name="Imagem 2" descr="Imagem3.jpg"/>
          <p:cNvPicPr/>
          <p:nvPr/>
        </p:nvPicPr>
        <p:blipFill>
          <a:blip r:embed="rId1"/>
          <a:stretch/>
        </p:blipFill>
        <p:spPr>
          <a:xfrm>
            <a:off x="357120" y="3071880"/>
            <a:ext cx="3786120" cy="3503520"/>
          </a:xfrm>
          <a:prstGeom prst="rect">
            <a:avLst/>
          </a:prstGeom>
          <a:ln w="0">
            <a:noFill/>
          </a:ln>
        </p:spPr>
      </p:pic>
      <p:pic>
        <p:nvPicPr>
          <p:cNvPr id="380" name="Imagem 3" descr="Imagem4.jpg"/>
          <p:cNvPicPr/>
          <p:nvPr/>
        </p:nvPicPr>
        <p:blipFill>
          <a:blip r:embed="rId2"/>
          <a:stretch/>
        </p:blipFill>
        <p:spPr>
          <a:xfrm>
            <a:off x="4643280" y="2286000"/>
            <a:ext cx="4257720" cy="2643120"/>
          </a:xfrm>
          <a:prstGeom prst="rect">
            <a:avLst/>
          </a:prstGeom>
          <a:ln w="0">
            <a:noFill/>
          </a:ln>
        </p:spPr>
      </p:pic>
      <p:sp>
        <p:nvSpPr>
          <p:cNvPr id="381" name="CaixaDeTexto 4"/>
          <p:cNvSpPr/>
          <p:nvPr/>
        </p:nvSpPr>
        <p:spPr>
          <a:xfrm>
            <a:off x="939960" y="2357280"/>
            <a:ext cx="243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Barra Funda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2" name="CaixaDeTexto 5"/>
          <p:cNvSpPr/>
          <p:nvPr/>
        </p:nvSpPr>
        <p:spPr>
          <a:xfrm>
            <a:off x="6219720" y="5000760"/>
            <a:ext cx="101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Brás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0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5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8" dur="2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CaixaDeTexto 1"/>
          <p:cNvSpPr/>
          <p:nvPr/>
        </p:nvSpPr>
        <p:spPr>
          <a:xfrm>
            <a:off x="928800" y="1714680"/>
            <a:ext cx="7572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  <a:ea typeface="Arial"/>
              </a:rPr>
              <a:t>É uma das notáveis da primeira fase do Modernismo brasileiro.</a:t>
            </a: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7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5T13:24:42Z</dcterms:created>
  <dc:creator>Jorge</dc:creator>
  <dc:description/>
  <dc:language>en-US</dc:language>
  <cp:lastModifiedBy>Escola</cp:lastModifiedBy>
  <dcterms:modified xsi:type="dcterms:W3CDTF">2009-07-29T18:03:55Z</dcterms:modified>
  <cp:revision>26</cp:revision>
  <dc:subject/>
  <dc:title>Slide 1</dc:title>
</cp:coreProperties>
</file>